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C4FF-5DE2-498F-A479-024F6477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7254-D843-444A-AF8E-281D1D3B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4BA8-5E1D-4666-AB8B-F73203AF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59A1-E5AB-476D-A1B7-099E9B99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A0F2-F06D-44BC-BB48-36D9CDCF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502D-C68A-48BA-A3BF-4F7349B9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8416-CBDC-4A30-8D9E-3A8429BE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BC9B-02CA-4EB8-97D1-50F67CA6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8DA7-C47D-4E79-A547-2093835E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2354-B5CE-4D03-9C8D-E56501C5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5B32-5B6F-46FE-A7AD-FB4ACE44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00BB-B65F-42A0-A19A-75F5B756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7D28-6801-4381-9B30-9888C9FA5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280" y="1071720"/>
          <a:ext cx="8839440" cy="471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71720"/>
                    <a:ext cx="8839440" cy="47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3:50:50Z</dcterms:created>
  <dc:creator>Sudhanshu</dc:creator>
  <dc:description/>
  <dc:language>en-US</dc:language>
  <cp:lastModifiedBy>Sudhanshu</cp:lastModifiedBy>
  <dcterms:modified xsi:type="dcterms:W3CDTF">2009-01-27T23:51:31Z</dcterms:modified>
  <cp:revision>1</cp:revision>
  <dc:subject/>
  <dc:title>Slide 1</dc:title>
</cp:coreProperties>
</file>